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39D2-B726-4BDE-8CA2-07CD3C9B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1015-2992-4323-B936-E307C72C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F411-F887-4D06-8944-BC8BB045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B39C-DC14-4281-AE92-3749A380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A20B-463D-4E54-A05A-A2F61290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610D46-F4E3-41B5-B59C-3E9CD6DF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F820AF-F69D-4C5B-ADDA-F37B3A6E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27EFD3-AA1A-48BC-BB69-3EA0D78E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84CBA9-F01B-40DE-AC7A-97A2DE21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B2B1BD-3350-411C-9EF3-40BD7B2C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455F-BF62-4336-8E11-53154328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E58339-4312-4167-8A79-2C850323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7AF84F-C078-4C6D-A337-E302FCDB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4A06F-8C5E-4D29-9E5F-7C1C5686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B4D329-97FC-4805-A15F-3A6937D2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3CB3E1-AA88-48BA-80E4-C8E8B732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C3761F-AB44-4B7D-B3E8-8F3BC9BE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49926A-7410-43AF-AD3F-C83F1900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56C5-407A-410B-802B-1904AF3A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FE4D-E51F-4574-BC72-5CE94C57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7DE5-DB53-4FE3-A6C3-6D18344C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FEB0-424C-45AC-8F7B-A07FD491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EBF4-4714-4045-872C-5322B4FE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B42B-FEAC-440E-8F79-CE398F35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2156EF-6F35-4587-A4F0-997E3A32B1CB}" type="datetime">
              <a:rPr b="0" lang="en-US" sz="1000" spc="-1" strike="noStrike">
                <a:solidFill>
                  <a:srgbClr val="595959"/>
                </a:solidFill>
                <a:latin typeface="Century Gothic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C79DB1-C348-4B4C-809F-8AE78C526B8C}" type="slidenum">
              <a:rPr b="0" lang="en-US" sz="8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CE2275-7E8D-4757-B6B5-D5F9606421B2}" type="datetime">
              <a:rPr b="0" lang="en-US" sz="1000" spc="-1" strike="noStrike">
                <a:solidFill>
                  <a:srgbClr val="595959"/>
                </a:solidFill>
                <a:latin typeface="Century Gothic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D8C96E-23AC-4AA9-9C19-DBABB3A6DFD5}" type="datetime">
              <a:rPr b="0" lang="en-US" sz="1000" spc="-1" strike="noStrike">
                <a:solidFill>
                  <a:srgbClr val="595959"/>
                </a:solidFill>
                <a:latin typeface="Century Gothic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8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FCA9F2-7D85-40A6-A311-F0BBC4ABC051}" type="slidenum">
              <a:rPr b="0" lang="en-US" sz="8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89D420-724D-4FE8-BB92-2124A96829EB}" type="datetime">
              <a:rPr b="0" lang="en-US" sz="1000" spc="-1" strike="noStrike">
                <a:solidFill>
                  <a:srgbClr val="595959"/>
                </a:solidFill>
                <a:latin typeface="Century Gothic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D7E79-4139-42A8-B5FC-B39EBB9D73CE}" type="datetime">
              <a:rPr b="0" lang="en-US" sz="1000" spc="-1" strike="noStrike">
                <a:solidFill>
                  <a:srgbClr val="595959"/>
                </a:solidFill>
                <a:latin typeface="Century Gothic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B81B23-2F42-4B7C-8FBB-FDBB3CB7DDCC}" type="datetime">
              <a:rPr b="0" lang="en-US" sz="1000" spc="-1" strike="noStrike">
                <a:solidFill>
                  <a:srgbClr val="595959"/>
                </a:solidFill>
                <a:latin typeface="Century Gothic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776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Pre - La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914040" y="3034800"/>
            <a:ext cx="8001000" cy="382284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txBody>
          <a:bodyPr lIns="292680" rIns="274320" tIns="91440" bIns="9144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ellular Respiration</a:t>
            </a: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1752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9.  In which direction does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water level move in the tube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during this experimant?  Explain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oward the peas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As the volume of gas goes down (oxygen is consumed and the carbon dioxide produced is turned into a solid) the pressure also drop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3960" cy="1600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10.  Why should you keep your hand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  out of the water during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  course of the experment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o prevent outside influences on data. 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ands in the water may cause temperature change/ bumping the respirometer may allow water to re-enter the pipette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913960" cy="15811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1.  What effect do changes i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temperature have on the volum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of a gas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volume of the gas changes in direct proportion to the temperature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An increase in temperature = An increase in volume &amp; vice versa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2.  Which of the 3 vials will serve as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control?  Why is that necessary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Vial with beads only 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s vial enables us to correct for changes in gas volume that are due to changes in temperature or barometric pressure rather than consumption of oxygen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13960" cy="19810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3.  Do you expect germinating seed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to consume a different amount of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oxygen when compared to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dry seeds?  Explain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Yes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Respiration rates are slower in dry, dormant seeds.  The rate of respiration increases during germination because the seeds need more energy for growth &amp; development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4.  What is the purpose of the KOH i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this experiment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o remove the carbon dioxide produced by the peas during germination by converting it to a solid precipitate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s means that changes in the volume of gas in the respirometer will be directly related to the amount of oxygen consumed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5.  What is the independent variabl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 in this experiment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type of pea used – germinating vs. non-germinating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6.  What is the dependent variable i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this experiment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volume of oxygen gas consumed by the peas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913960" cy="2214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7.  What are we trying to show whe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comparing respirometers on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right side of the room compared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to the left  side of the room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114560" y="2971800"/>
            <a:ext cx="761040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at change in temperature is directly proportional to the volume of gas.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8.  What gas is being consumed b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  the peas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Oxygen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18:38Z</dcterms:created>
  <dc:creator>Keith or Sherri Holmgren</dc:creator>
  <dc:description/>
  <dc:language>en-US</dc:language>
  <cp:lastModifiedBy>NHS NPS</cp:lastModifiedBy>
  <dcterms:modified xsi:type="dcterms:W3CDTF">2011-11-14T12:35:29Z</dcterms:modified>
  <cp:revision>3</cp:revision>
  <dc:subject/>
  <dc:title>Pre - Lab</dc:title>
</cp:coreProperties>
</file>